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E85-421B-41F0-82C1-7B8752AB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6CE-791E-4856-BBB0-E7F7B0F5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D6C-06CA-4FA7-A653-EA45AB99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37A-8518-4334-891F-049C8FEE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03E-8924-4B1E-8DCA-C1BF5E95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D69-C085-4D4A-A937-0DE9EE2A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A25-446F-4284-A2A9-D281612D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FB8-A659-4556-90D1-D14BC5F4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07C-6CDD-4AFD-89BE-3AAC6EA5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FE3-70BD-4B34-B537-89D8EA0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4A8-0648-4B14-91F0-B586C03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C97-7F03-4B60-9878-31AB4EA9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E3D2-56A5-4BF1-A3C1-C40014DDF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8040" y="534960"/>
            <a:ext cx="7759800" cy="195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змерение заряда пылинки по штарковскому уширению спектральных линий атомов водор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000" y="3168720"/>
            <a:ext cx="86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аль А. Ф., Сивохин Д. В., Филиппов А.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08200" y="465444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cc"/>
                </a:solidFill>
                <a:latin typeface="Times New Roman"/>
              </a:rPr>
              <a:t>ГНЦ РФ ТРИНИ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550800" y="1413000"/>
          <a:ext cx="3249720" cy="11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1413000"/>
                    <a:ext cx="32497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568840" y="1440000"/>
          <a:ext cx="259416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8840" y="1440000"/>
                    <a:ext cx="259416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722760" y="303120"/>
            <a:ext cx="46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число атомов в сферическом сл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027080"/>
            <a:ext cx="24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ереход от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9400" y="233280"/>
            <a:ext cx="287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(r)dr=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8760" y="3908520"/>
                <a:ext cx="80341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d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28920" y="2738520"/>
                <a:ext cx="2676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ω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87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Контур линии при дебаевской экраниров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1720" y="1481040"/>
          <a:ext cx="72928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81040"/>
                    <a:ext cx="7292880" cy="4897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8600" y="196560"/>
            <a:ext cx="8353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Механизмы уширения спектральных ли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7040" y="1833480"/>
            <a:ext cx="7773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полем 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электро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леровское уши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силами Ван дер Вааль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полем пыли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онансное ушир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9080" y="378000"/>
            <a:ext cx="789444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Уширение ионами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ширина линии в квазистатическом приближении для линейного эффекта штар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595680" y="2124000"/>
          <a:ext cx="218916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5680" y="2124000"/>
                    <a:ext cx="21891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695680" y="2778120"/>
          <a:ext cx="384480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2778120"/>
                    <a:ext cx="38448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641680" y="3875040"/>
            <a:ext cx="38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 теории Хольцмарка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27320" y="4792680"/>
          <a:ext cx="30733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7320" y="4792680"/>
                    <a:ext cx="30733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637600" y="484992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ГС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51240" y="5657760"/>
            <a:ext cx="4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917960" y="5573880"/>
                <a:ext cx="190368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639880" y="5715000"/>
            <a:ext cx="30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ля лини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18760" y="165240"/>
            <a:ext cx="62578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Уширение электронами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ударное приближ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65240" y="1243080"/>
          <a:ext cx="244800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243080"/>
                    <a:ext cx="2448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099040" y="1235160"/>
          <a:ext cx="194940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9040" y="1235160"/>
                    <a:ext cx="1949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61280" y="2436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64600" y="188604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онстанта кулоновского взаимо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28840" y="3189240"/>
            <a:ext cx="119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&lt;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5240" y="4105440"/>
          <a:ext cx="6902280" cy="12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5240" y="4105440"/>
                    <a:ext cx="69022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840120" y="5699160"/>
          <a:ext cx="143532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0120" y="5699160"/>
                    <a:ext cx="143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287320" y="5648400"/>
            <a:ext cx="6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85840" y="2484360"/>
          <a:ext cx="438624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5840" y="2484360"/>
                    <a:ext cx="4386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89960" y="2523960"/>
            <a:ext cx="75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2240" y="343080"/>
            <a:ext cx="607824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Доплеровская ши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89000" y="1090440"/>
          <a:ext cx="224784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090440"/>
                    <a:ext cx="22478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078520" y="1085760"/>
          <a:ext cx="205416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8520" y="1085760"/>
                    <a:ext cx="20541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747960" y="110484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49200" y="1916280"/>
          <a:ext cx="6021720" cy="14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9200" y="1916280"/>
                    <a:ext cx="60217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003480" y="3503520"/>
          <a:ext cx="2019240" cy="58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03480" y="3503520"/>
                    <a:ext cx="20192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166360" y="353376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1080" y="4224240"/>
            <a:ext cx="70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Уширение силами Ван дер Вааль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624040" y="4943520"/>
          <a:ext cx="323856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4040" y="4943520"/>
                    <a:ext cx="3238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933480" y="5996160"/>
          <a:ext cx="1814400" cy="51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33480" y="5996160"/>
                    <a:ext cx="181440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194120" y="562932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=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а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335640" y="6008760"/>
          <a:ext cx="16797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35640" y="6008760"/>
                    <a:ext cx="1679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453000" y="554184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=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а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45440" y="59612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52480" y="59720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Штарковское расщепление полем пыли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0200" y="1650960"/>
          <a:ext cx="24894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650960"/>
                    <a:ext cx="2489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172040" y="17384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03720" y="1900080"/>
          <a:ext cx="119556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1900080"/>
                    <a:ext cx="11955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524640" y="1849320"/>
          <a:ext cx="88272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4640" y="1849320"/>
                    <a:ext cx="882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041480" y="2616120"/>
          <a:ext cx="6931080" cy="145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1480" y="2616120"/>
                    <a:ext cx="693108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760920" y="4240080"/>
          <a:ext cx="187776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60920" y="4240080"/>
                    <a:ext cx="18777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336680" y="5375160"/>
          <a:ext cx="2157480" cy="885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6680" y="5375160"/>
                    <a:ext cx="21574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031000" y="553392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-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заряд пыли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201240"/>
            <a:ext cx="69390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Интегрирование контура линии по пространств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17600" y="1233360"/>
          <a:ext cx="828036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233360"/>
                    <a:ext cx="828036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63720" y="2532240"/>
          <a:ext cx="724536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2532240"/>
                    <a:ext cx="7245360" cy="3962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720800" y="1050840"/>
          <a:ext cx="6086520" cy="56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1050840"/>
                    <a:ext cx="6086520" cy="5624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044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Зависимость контура линии от заряда пыли при азотной температур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82640" y="174600"/>
            <a:ext cx="75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Зависимость контура линии от заряда пыли при комнатной темпера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120760" y="1428840"/>
          <a:ext cx="56930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1428840"/>
                    <a:ext cx="569304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3:37:09Z</dcterms:created>
  <dc:creator>Mir</dc:creator>
  <dc:description/>
  <dc:language>en-US</dc:language>
  <cp:lastModifiedBy>Наташа</cp:lastModifiedBy>
  <dcterms:modified xsi:type="dcterms:W3CDTF">2002-08-31T19:16:51Z</dcterms:modified>
  <cp:revision>188</cp:revision>
  <dc:subject/>
  <dc:title>ГНЦ РФ  «Троицкий институт инновационных и термоядерных исследований»</dc:title>
</cp:coreProperties>
</file>