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10.wmf" ContentType="image/x-wmf"/>
  <Override PartName="/ppt/media/image47.wmf" ContentType="image/x-wmf"/>
  <Override PartName="/ppt/media/image2.png" ContentType="image/png"/>
  <Override PartName="/ppt/media/image14.wmf" ContentType="image/x-wmf"/>
  <Override PartName="/ppt/media/image18.wmf" ContentType="image/x-wmf"/>
  <Override PartName="/ppt/media/image60.wmf" ContentType="image/x-wmf"/>
  <Override PartName="/ppt/media/image20.wmf" ContentType="image/x-wmf"/>
  <Override PartName="/ppt/media/image57.wmf" ContentType="image/x-wmf"/>
  <Override PartName="/ppt/media/image56.wmf" ContentType="image/x-wmf"/>
  <Override PartName="/ppt/media/image19.wmf" ContentType="image/x-wmf"/>
  <Override PartName="/ppt/media/image61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29.wmf" ContentType="image/x-wmf"/>
  <Override PartName="/ppt/media/image65.wmf" ContentType="image/x-wmf"/>
  <Override PartName="/ppt/media/image28.wmf" ContentType="image/x-wmf"/>
  <Override PartName="/ppt/media/image25.wmf" ContentType="image/x-wmf"/>
  <Override PartName="/ppt/media/image62.wmf" ContentType="image/x-wmf"/>
  <Override PartName="/ppt/media/image64.wmf" ContentType="image/x-wmf"/>
  <Override PartName="/ppt/media/image27.wmf" ContentType="image/x-wmf"/>
  <Override PartName="/ppt/media/image24.wmf" ContentType="image/x-wmf"/>
  <Override PartName="/ppt/media/image63.wmf" ContentType="image/x-wmf"/>
  <Override PartName="/ppt/media/image26.wmf" ContentType="image/x-wmf"/>
  <Override PartName="/ppt/media/image23.wmf" ContentType="image/x-wmf"/>
  <Override PartName="/ppt/media/image15.wmf" ContentType="image/x-wmf"/>
  <Override PartName="/ppt/media/image6.png" ContentType="image/png"/>
  <Override PartName="/ppt/media/image40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8.wmf" ContentType="image/x-wmf"/>
  <Override PartName="/ppt/media/image38.wmf" ContentType="image/x-wmf"/>
  <Override PartName="/ppt/media/image17.png" ContentType="image/png"/>
  <Override PartName="/ppt/media/image5.png" ContentType="image/png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16.png" ContentType="image/png"/>
  <Override PartName="/ppt/media/image4.png" ContentType="image/png"/>
  <Override PartName="/ppt/media/image12.wmf" ContentType="image/x-wmf"/>
  <Override PartName="/ppt/media/image49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7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D3F8-AF82-4158-82A0-E6FC3071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CD8-8668-4A30-AD1C-0BD3C499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E9D-483F-48A4-9245-669C65F8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0C2-64C7-463D-A361-59A4381A9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AD1-74C9-45D6-8CD2-8F65E863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D5A-E06F-4AE3-A28F-6DA485FF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B8F0-64C2-4CB5-AEE6-27279802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053F-4983-41DD-B557-5C1EF736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E97-2D39-4E53-8805-D5332FE2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AD22-E1AD-443E-B355-3A522F66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6092-0165-4649-817D-5306D4DB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0920-A732-4CDE-AB13-1C6338C4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D13E-0EB2-4B68-9F08-C80417998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2722320"/>
            <a:ext cx="7759800" cy="19731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следование процессов в пылевой плазме при повышенных давления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6000" y="4946760"/>
            <a:ext cx="8702640" cy="1738080"/>
          </a:xfrm>
          <a:prstGeom prst="rect">
            <a:avLst/>
          </a:prstGeom>
          <a:solidFill>
            <a:srgbClr val="00cc99"/>
          </a:solidFill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Школа молодых уче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етоды и техника экспериментального исследования процессов самоорганизации упорядоченных структур в плазменно-пылевых образованиях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85880" y="0"/>
          <a:ext cx="4062600" cy="249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5880" y="0"/>
                    <a:ext cx="406260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71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Ежегодная выработка электроэнергии атомными электростанциями в Росси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83520" y="3335400"/>
            <a:ext cx="66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а атомных электростанция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ырабатывается около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2.5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 кг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Sr</a:t>
            </a:r>
            <a:r>
              <a:rPr b="0" lang="en-US" sz="3600" spc="-1" strike="noStrike" baseline="30000">
                <a:solidFill>
                  <a:srgbClr val="00cc99"/>
                </a:solidFill>
                <a:latin typeface="Times New Roman"/>
              </a:rPr>
              <a:t>90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на 1 млрд. кВт</a:t>
            </a:r>
            <a:r>
              <a:rPr b="0" lang="en-US" sz="3600" spc="-1" strike="noStrike">
                <a:solidFill>
                  <a:srgbClr val="00cc99"/>
                </a:solidFill>
                <a:latin typeface="Symbol"/>
                <a:ea typeface="Symbol"/>
              </a:rPr>
              <a:t></a:t>
            </a: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ча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99"/>
                </a:solidFill>
                <a:latin typeface="Times New Roman"/>
              </a:rPr>
              <a:t>выработанной электроэнерг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84120" y="1360440"/>
            <a:ext cx="8377200" cy="52354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920" y="171000"/>
            <a:ext cx="879624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Эффективность выхода энергии </a:t>
            </a:r>
            <a:r>
              <a:rPr b="0" lang="ru-RU" sz="3600" spc="-1" strike="noStrike">
                <a:solidFill>
                  <a:srgbClr val="6600ff"/>
                </a:solidFill>
                <a:latin typeface="Symbol"/>
                <a:ea typeface="Symbol"/>
              </a:rPr>
              <a:t>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частиц в зависимости от радиуса пылевых части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1393920"/>
            <a:ext cx="8313840" cy="5172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920" y="171000"/>
            <a:ext cx="879624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Эффективность выхода энергии </a:t>
            </a:r>
            <a:r>
              <a:rPr b="0" lang="ru-RU" sz="3600" spc="-1" strike="noStrike">
                <a:solidFill>
                  <a:srgbClr val="6600ff"/>
                </a:solidFill>
                <a:latin typeface="Symbol"/>
                <a:ea typeface="Symbol"/>
              </a:rPr>
              <a:t>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частиц в зависимости от разме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3720" y="1322280"/>
            <a:ext cx="8313840" cy="51721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847800" y="2371680"/>
          <a:ext cx="7775640" cy="42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2371680"/>
                    <a:ext cx="777564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6600" y="169920"/>
            <a:ext cx="77724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Расчетный заряд пылевых частиц в ксеноне </a:t>
            </a:r>
            <a:br>
              <a:rPr sz="3600"/>
            </a:b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ри </a:t>
            </a:r>
            <a:r>
              <a:rPr b="0" i="1" lang="ru-RU" sz="36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36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cm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ru-RU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i="1" lang="ru-RU" sz="3600" spc="-1" strike="noStrike" baseline="-25000">
                <a:solidFill>
                  <a:srgbClr val="3333cc"/>
                </a:solidFill>
                <a:latin typeface="Times New Roman"/>
              </a:rPr>
              <a:t>ion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6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cm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-3.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Эволюция во времени  заряда пылевых частиц в пучковой плазме ксенона и воздух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11120" y="1332000"/>
            <a:ext cx="83138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3600" y="23472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асчетный заряд пылевых частиц в АППБ с электрической мощностью 10 кВт  </a:t>
            </a:r>
            <a:br>
              <a:rPr sz="2800"/>
            </a:b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ри объём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и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 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а основе изотопа Sr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749160" y="166680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666800"/>
                    <a:ext cx="7702560" cy="479448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3600" y="23472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араметр неидеальности пылевой плазмы </a:t>
            </a:r>
            <a:br>
              <a:rPr sz="2800"/>
            </a:b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в АППБ с электрической мощностью 10 кВт  </a:t>
            </a:r>
            <a:br>
              <a:rPr sz="2800"/>
            </a:b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ри объёме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 и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 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3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на основе изотопа Sr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65280" y="173664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1736640"/>
                    <a:ext cx="7702560" cy="479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4680" y="609480"/>
            <a:ext cx="79135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</a:rPr>
              <a:t>Экспериментальное исследование пылевой плазмы с внешним источником ион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2880" y="2981160"/>
            <a:ext cx="8643960" cy="350604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сточник ионизации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электронная пушк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энергия электронов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120 кэ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лотность тока пучка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до 300 мкА/см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сследованные газы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гелий, азот; давление газа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 1 ат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Концентрация пылевых частиц - 10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3333cc"/>
                </a:solidFill>
                <a:latin typeface="Symbol"/>
                <a:ea typeface="Symbol"/>
              </a:rPr>
              <a:t>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см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; радиус 12</a:t>
            </a:r>
            <a:r>
              <a:rPr b="0" lang="ru-RU" sz="3200" spc="-1" strike="noStrike">
                <a:solidFill>
                  <a:srgbClr val="3333cc"/>
                </a:solidFill>
                <a:latin typeface="Symbol"/>
                <a:ea typeface="Symbol"/>
              </a:rPr>
              <a:t>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 мкм; материал - стеклоуглер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Схема экспериментальной установ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set-up2" descr=""/>
          <p:cNvPicPr/>
          <p:nvPr/>
        </p:nvPicPr>
        <p:blipFill>
          <a:blip r:embed="rId1"/>
          <a:stretch/>
        </p:blipFill>
        <p:spPr>
          <a:xfrm>
            <a:off x="271440" y="1874880"/>
            <a:ext cx="863460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Вид сверху на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экспериментальную установ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set-up" descr=""/>
          <p:cNvPicPr/>
          <p:nvPr/>
        </p:nvPicPr>
        <p:blipFill>
          <a:blip r:embed="rId1"/>
          <a:stretch/>
        </p:blipFill>
        <p:spPr>
          <a:xfrm>
            <a:off x="142920" y="2232000"/>
            <a:ext cx="886788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41320" y="167760"/>
            <a:ext cx="7772400" cy="2124360"/>
          </a:xfrm>
          <a:prstGeom prst="rect">
            <a:avLst/>
          </a:prstGeom>
          <a:solidFill>
            <a:srgbClr val="ccffcc"/>
          </a:solidFill>
          <a:ln w="648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Филиппов А.В., Паль А.Ф., Старостин А.Н., Серов А.О., Дятко Н.А., Сивохин Д.В. и др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884240" y="5981760"/>
            <a:ext cx="5238720" cy="681120"/>
          </a:xfrm>
          <a:prstGeom prst="rect">
            <a:avLst/>
          </a:prstGeom>
          <a:solidFill>
            <a:srgbClr val="99ccff"/>
          </a:solidFill>
          <a:ln w="648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av@triniti.r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LL2" descr=""/>
          <p:cNvPicPr/>
          <p:nvPr/>
        </p:nvPicPr>
        <p:blipFill>
          <a:blip r:embed="rId1"/>
          <a:stretch/>
        </p:blipFill>
        <p:spPr>
          <a:xfrm>
            <a:off x="4057560" y="4635360"/>
            <a:ext cx="1386000" cy="1211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6800" y="2994120"/>
            <a:ext cx="7943760" cy="1373760"/>
          </a:xfrm>
          <a:prstGeom prst="rect">
            <a:avLst/>
          </a:prstGeom>
          <a:solidFill>
            <a:srgbClr val="33cccc"/>
          </a:solidFill>
          <a:ln w="64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НЦ РФ Троицкий институт инновационных и термоядерных исследо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42190 Троицк,  Московская об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85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Осциллограммы тока НР в гелии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=1 атм,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= 90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/c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, U = 780 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720" y="6397560"/>
            <a:ext cx="7913880" cy="460440"/>
          </a:xfrm>
          <a:prstGeom prst="rect">
            <a:avLst/>
          </a:prstGeom>
          <a:solidFill>
            <a:srgbClr val="ccffc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.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.8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68160" y="156060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560600"/>
                    <a:ext cx="7702560" cy="47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78500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Осциллограммы тока НР в азоте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=1 атм,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9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/cм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U = 2.1 к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47720" y="6397560"/>
            <a:ext cx="7913520" cy="460440"/>
          </a:xfrm>
          <a:prstGeom prst="rect">
            <a:avLst/>
          </a:prstGeom>
          <a:solidFill>
            <a:srgbClr val="ccffc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4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.8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65200" y="153504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1535040"/>
                    <a:ext cx="770256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69560"/>
            <a:ext cx="77850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Осциллограммы тока НР в азоте</a:t>
            </a:r>
            <a:r>
              <a:rPr b="0" i="1" lang="en-US" sz="3600" spc="-1" strike="noStrike" baseline="-25000">
                <a:solidFill>
                  <a:srgbClr val="3333cc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=1 атм,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90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/cм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, U = 2.9 к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1400" y="6397560"/>
            <a:ext cx="7913880" cy="460440"/>
          </a:xfrm>
          <a:prstGeom prst="rect">
            <a:avLst/>
          </a:prstGeom>
          <a:solidFill>
            <a:srgbClr val="ccffcc"/>
          </a:soli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0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8.8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.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8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74800" y="1674720"/>
          <a:ext cx="7559640" cy="470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1674720"/>
                    <a:ext cx="7559640" cy="4705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риведенный ток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НР в He и N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на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150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9240" y="64008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U = 2.1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, 2.9 кВ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U = 480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, 780 В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95160" y="150984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509840"/>
                    <a:ext cx="7702560" cy="47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1840" y="-360"/>
            <a:ext cx="854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Приведенный ток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НР в He и N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на 400 </a:t>
            </a:r>
            <a:r>
              <a:rPr b="0" lang="en-US" sz="3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63640" y="6400800"/>
            <a:ext cx="777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U = 2.1 кВ (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e: U = 480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, 780 В (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28800" y="135252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352520"/>
                    <a:ext cx="7702560" cy="47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0360" y="295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</a:rPr>
              <a:t>Численное моделирование процессов в пылевой плазмы с внешним источником ион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840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</a:rPr>
              <a:t>Гидродинамическая модель зарядки пылевых част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280" y="1687680"/>
            <a:ext cx="8952120" cy="455904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</a:rPr>
              <a:t>Условия применимости: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spcAft>
                <a:spcPts val="22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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r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d;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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r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d,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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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r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радиус пылевых частиц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характерный размер области нарушения квазинейтральности плазмы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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r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возможен локальный подход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i="1" lang="ru-RU" sz="3600" spc="-1" strike="noStrike" baseline="-25000">
                <a:solidFill>
                  <a:srgbClr val="ff0000"/>
                </a:solidFill>
                <a:latin typeface="Times New Roman"/>
              </a:rPr>
              <a:t>u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 &gt;&gt; r</a:t>
            </a:r>
            <a:r>
              <a:rPr b="1" lang="ru-RU" sz="36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требуется учет нелокальности ФРЭЭ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I. Основные уравнения гидродинамической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33480" y="2774880"/>
          <a:ext cx="732960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2774880"/>
                    <a:ext cx="7329600" cy="104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157400" y="1862280"/>
            <a:ext cx="702468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Уравнение непрерывности для электр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280" y="4524480"/>
            <a:ext cx="895032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авнение непрерывности для положительных 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3360" y="5392800"/>
          <a:ext cx="8040600" cy="104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3360" y="5392800"/>
                    <a:ext cx="8040600" cy="104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60240" y="20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I.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Основные уравнения гидродинамической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22640" y="2716200"/>
          <a:ext cx="488952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2716200"/>
                    <a:ext cx="4889520" cy="104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201600" y="1843200"/>
            <a:ext cx="874548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равнение непрерывности для отрицательных и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480" y="3987720"/>
            <a:ext cx="369504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Уравнение Пуасс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73320" y="4834080"/>
          <a:ext cx="461016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73320" y="4834080"/>
                    <a:ext cx="4610160" cy="531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255840" y="5662440"/>
          <a:ext cx="2578320" cy="4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55840" y="5662440"/>
                    <a:ext cx="2578320" cy="48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II.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Основные уравнения гидродинамической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88800" y="1851120"/>
            <a:ext cx="652968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Уравнение баланса энергии электро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893880" y="2548080"/>
          <a:ext cx="73292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3880" y="2548080"/>
                    <a:ext cx="7329240" cy="1066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68280" y="4565520"/>
          <a:ext cx="4076640" cy="53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280" y="4565520"/>
                    <a:ext cx="4076640" cy="532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141880" y="4476600"/>
          <a:ext cx="3594240" cy="52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1880" y="4476600"/>
                    <a:ext cx="3594240" cy="520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108400" y="5586480"/>
          <a:ext cx="384840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08400" y="5586480"/>
                    <a:ext cx="3848400" cy="520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28760" y="5621400"/>
          <a:ext cx="3873240" cy="531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760" y="5621400"/>
                    <a:ext cx="3873240" cy="531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335600" y="3794040"/>
            <a:ext cx="6037560" cy="5205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оки определяются соотношения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8600" y="196560"/>
            <a:ext cx="835344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Автономный источник электрической энергии на основе долгоживущих радиоактивных изотопов и </a:t>
            </a:r>
            <a:r>
              <a:rPr b="0" lang="en-US" sz="3600" spc="-1" strike="noStrike">
                <a:solidFill>
                  <a:srgbClr val="6600ff"/>
                </a:solidFill>
                <a:latin typeface="Times New Roman"/>
              </a:rPr>
              <a:t>плазменно - 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пылевых кристаллических структу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1600" y="5251320"/>
            <a:ext cx="74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Атомная плазменно-пылевая батаре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АПП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ilippov_eng" descr=""/>
          <p:cNvPicPr/>
          <p:nvPr/>
        </p:nvPicPr>
        <p:blipFill>
          <a:blip r:embed="rId1"/>
          <a:stretch/>
        </p:blipFill>
        <p:spPr>
          <a:xfrm>
            <a:off x="2968560" y="3068640"/>
            <a:ext cx="30448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3200" y="22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V.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Граничные условия  гидродинамической модел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32040" y="1816200"/>
          <a:ext cx="6986520" cy="13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2040" y="1816200"/>
                    <a:ext cx="6986520" cy="13208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6237360" y="3332160"/>
          <a:ext cx="2374920" cy="128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37360" y="3332160"/>
                    <a:ext cx="2374920" cy="1282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041480" y="5477040"/>
          <a:ext cx="703728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1480" y="5477040"/>
                    <a:ext cx="7037280" cy="825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410400" y="3510000"/>
            <a:ext cx="4591080" cy="45972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ффективные граничные услов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527200" y="2980800"/>
            <a:ext cx="587520" cy="52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2200" y="3743280"/>
            <a:ext cx="1160640" cy="257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5880" y="1963800"/>
            <a:ext cx="77724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</a:rPr>
              <a:t>Численное моделирование процессов в пылевой плазме с помощью локальной модели зарядки пылевых част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75840" y="172800"/>
            <a:ext cx="83739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Эволюция заряда во времени в азоте при разных скоростях ионизации</a:t>
            </a:r>
            <a:br>
              <a:rPr sz="3600"/>
            </a:b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62120" y="188748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87480"/>
                    <a:ext cx="7702560" cy="479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75840" y="172800"/>
            <a:ext cx="83739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Эволюция заряда во времени в азоте при разных скоростях ионизации</a:t>
            </a:r>
            <a:br>
              <a:rPr sz="3600"/>
            </a:b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25320" y="188748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5320" y="1887480"/>
                    <a:ext cx="7702560" cy="4794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2520" y="194760"/>
            <a:ext cx="8688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Аппроксимация потенциала пылевой частицы потенциалом Дебая</a:t>
            </a:r>
            <a:br>
              <a:rPr sz="3600"/>
            </a:b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Т = 300 К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87320" y="1646280"/>
          <a:ext cx="7424640" cy="462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46280"/>
                    <a:ext cx="7424640" cy="4621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1423800" y="6354720"/>
            <a:ext cx="630972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5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м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36560" y="50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Зависимость дебаевского радиуса от скорости ионизации газа в азоте.</a:t>
            </a:r>
            <a:br>
              <a:rPr sz="3600"/>
            </a:b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708120" y="206388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2063880"/>
                    <a:ext cx="7702560" cy="47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36560" y="50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Зависимость дебаевского радиуса от скорости ионизации газа в азоте.</a:t>
            </a:r>
            <a:br>
              <a:rPr sz="3600"/>
            </a:b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080" y="189072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080" y="1890720"/>
                    <a:ext cx="7702560" cy="47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4480" y="180720"/>
            <a:ext cx="87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ношение энергии взаимодействия пылевых частиц к тепловой в пучковой плазме азота. </a:t>
            </a:r>
            <a:br>
              <a:rPr sz="2800"/>
            </a:b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T = 300 K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735120" y="188928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889280"/>
                    <a:ext cx="770256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4480" y="180720"/>
            <a:ext cx="874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Отношение энергии взаимодействия пылевых частиц к тепловой в пучковой плазме азота.</a:t>
            </a:r>
            <a:br>
              <a:rPr sz="2800"/>
            </a:b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r</a:t>
            </a:r>
            <a:r>
              <a:rPr b="0" lang="ru-RU" sz="28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=12 мкм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i="1" lang="ru-RU" sz="2800" spc="-1" strike="noStrike" baseline="-25000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= 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, T = 77 K, 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N =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ru-RU" sz="2800" spc="-1" strike="noStrike">
                <a:solidFill>
                  <a:srgbClr val="3333cc"/>
                </a:solidFill>
                <a:latin typeface="Symbol"/>
                <a:ea typeface="Symbol"/>
              </a:rPr>
              <a:t>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cм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747720" y="167796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67796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87520" y="1541160"/>
            <a:ext cx="77724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</a:rPr>
              <a:t>Численное моделирование процессов в пылевой плазме с помощью нелокальной модели зарядки пылевых частиц, построенной  на основе нелокального метода момен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98040" y="0"/>
            <a:ext cx="78361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Схема атомной батареи на основе Kr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85</a:t>
            </a:r>
            <a:br>
              <a:rPr sz="3600"/>
            </a:b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с фотовольтаической ячей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Hora_1" descr=""/>
          <p:cNvPicPr/>
          <p:nvPr/>
        </p:nvPicPr>
        <p:blipFill>
          <a:blip r:embed="rId1"/>
          <a:stretch/>
        </p:blipFill>
        <p:spPr>
          <a:xfrm>
            <a:off x="1130400" y="1036800"/>
            <a:ext cx="6995880" cy="4867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78760" y="6029280"/>
            <a:ext cx="7683480" cy="8254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. Hora, R. Hopfl, M. A. Prelas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NAT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Advanced Workshop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Wide Bandgap Material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Minsk, 1994, p.4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6040" y="-360"/>
            <a:ext cx="8791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ФРЭЭ в пучковой плазме Не при </a:t>
            </a:r>
            <a:r>
              <a:rPr b="0" i="1" lang="ru-RU" sz="3600" spc="-1" strike="noStrike">
                <a:solidFill>
                  <a:srgbClr val="6600ff"/>
                </a:solidFill>
                <a:latin typeface="Times New Roman"/>
              </a:rPr>
              <a:t>р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=1 атм и при различных скоростях ионизации газ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183400" y="6218280"/>
            <a:ext cx="5334120" cy="5101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2 -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…, 9 -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62120" y="125748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5748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5920" y="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Заряд уединенной пылевой частицы радиусом 10 мкм в He при </a:t>
            </a:r>
            <a:r>
              <a:rPr b="0" i="1" lang="ru-RU" sz="3200" spc="-1" strike="noStrike">
                <a:solidFill>
                  <a:srgbClr val="6600ff"/>
                </a:solidFill>
                <a:latin typeface="Times New Roman"/>
              </a:rPr>
              <a:t>p=</a:t>
            </a: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1 ат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3920" y="5951520"/>
            <a:ext cx="8735760" cy="74556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асчет с коэффициентом ВЭЭ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0.1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1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расчет при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0.1 с условием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; 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аналитическая теор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5 - ПО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749160" y="103356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03356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Заряд уединенных пылевых частиц разного радиуса в He при </a:t>
            </a:r>
            <a:r>
              <a:rPr b="0" i="1" lang="ru-RU" sz="3600" spc="-1" strike="noStrike">
                <a:solidFill>
                  <a:srgbClr val="6600ff"/>
                </a:solidFill>
                <a:latin typeface="Times New Roman"/>
              </a:rPr>
              <a:t>p=</a:t>
            </a: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1 ат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7960" y="6276960"/>
            <a:ext cx="8736120" cy="44064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чет с коэффициентом ВЭЭ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0.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5 мкм; 2 - 10 мкм; 3 - 20 мкм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20720" y="131436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314360"/>
                    <a:ext cx="7702560" cy="479448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температуры электр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52440" y="1285920"/>
          <a:ext cx="8423280" cy="52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285920"/>
                    <a:ext cx="8423280" cy="524340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Температура электронов в гелии при атмосферном давлени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845320"/>
            <a:ext cx="8398080" cy="10087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- расчет на основе уравнения баланса энерги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- расчет на основе численного решения уравнения Больцмана для ФРЭЭ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- температура электронов около пылевой частиц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749160" y="103032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03032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электронов и и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15840" y="6149880"/>
            <a:ext cx="7467840" cy="7873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0 мк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1 мкА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2 -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А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3 - 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А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- Xe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3.6 мк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762120" y="133200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3200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потенциа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792520" y="6454800"/>
            <a:ext cx="4559040" cy="44064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1, 2 -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3 - 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4 -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A/c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49160" y="122868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228680"/>
                    <a:ext cx="770256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потенциал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35120" y="6191280"/>
            <a:ext cx="5167440" cy="44064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1, 2 -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3 - 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4 -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A/c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35120" y="128592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285920"/>
                    <a:ext cx="770256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отдельных членов в уравнении баланса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9920" y="6149880"/>
            <a:ext cx="8736120" cy="7873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А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2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4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баланс всех член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735120" y="128592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5120" y="128592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ff"/>
                </a:solidFill>
                <a:latin typeface="Times New Roman"/>
              </a:rPr>
              <a:t>Установившиеся радиальные распределения отдельных членов в уравнении баланса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7960" y="6149880"/>
            <a:ext cx="8736120" cy="7873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мкА/с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1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2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)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4 -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 5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баланс всех член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=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+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92280" y="1201680"/>
          <a:ext cx="770256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201680"/>
                    <a:ext cx="7702560" cy="479448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480" y="-360"/>
            <a:ext cx="8921520" cy="9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Схема атомной батареи с фотоячейкой с использованием радиоизотопа в виде аэрозо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Hora_2" descr=""/>
          <p:cNvPicPr/>
          <p:nvPr/>
        </p:nvPicPr>
        <p:blipFill>
          <a:blip r:embed="rId1"/>
          <a:stretch/>
        </p:blipFill>
        <p:spPr>
          <a:xfrm>
            <a:off x="1068480" y="1009800"/>
            <a:ext cx="6896160" cy="4852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436040" y="6029280"/>
            <a:ext cx="6066720" cy="8254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.A.Prelas, F.P.Boody, M.S.Zedi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Space Nuclear Power Syste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1986, v.IV, p.2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Нагрев электрон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75720" y="1168560"/>
            <a:ext cx="590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ловие применимости постоянн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лектронных транспортных коэффициен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560" y="4146480"/>
            <a:ext cx="810900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кА/с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0.025 эВ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25 эВ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10 мк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ем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~ 5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868400" y="2241720"/>
          <a:ext cx="53215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2241720"/>
                    <a:ext cx="53215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Установившийся потенциал пылевой части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31880" y="6207120"/>
            <a:ext cx="7635960" cy="51012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 мк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10 мкм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20 мкм;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ОО потенц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65280" y="1316160"/>
          <a:ext cx="7702560" cy="47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1316160"/>
                    <a:ext cx="7702560" cy="4794120"/>
                  </a:xfrm>
                  <a:prstGeom prst="rect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Связь потенциала с заряд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5320" y="1154160"/>
            <a:ext cx="765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язь потенциала с зарядом дается граничным условием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торое в сферически-симметричном случае имеет вид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38240" y="1844640"/>
          <a:ext cx="5435640" cy="13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8240" y="1844640"/>
                    <a:ext cx="543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2496960" y="3378240"/>
          <a:ext cx="6351840" cy="116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6960" y="3378240"/>
                    <a:ext cx="635184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8400" y="3554280"/>
            <a:ext cx="15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LV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енц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805120" y="5257800"/>
          <a:ext cx="3733920" cy="1168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05120" y="5257800"/>
                    <a:ext cx="373392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720720" y="4697280"/>
            <a:ext cx="771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сюда вытекает следующая связь заряда с потенциало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Близость расчетного потенциала с ПОО потенциало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0440" y="1154160"/>
            <a:ext cx="878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 распределение электронов около пылевой частицы практически больцмановско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 в этом случае эффективные граничные условия приводят к тому, что поток электронов на пылевую частицу в стационаре становится максвелловским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3680" y="5275440"/>
            <a:ext cx="685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 совпадает с потоком электронов в ПО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лабая зависимость ионного тока от потенциа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58680" y="3792600"/>
          <a:ext cx="708840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8680" y="3792600"/>
                    <a:ext cx="708840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160" y="169560"/>
            <a:ext cx="87044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Потоки ионов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0360" y="3043080"/>
            <a:ext cx="40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тическая те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5600" y="5118120"/>
            <a:ext cx="4959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 </a:t>
            </a:r>
            <a:r>
              <a:rPr b="0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q/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переходит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5680" y="3540240"/>
          <a:ext cx="614844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3540240"/>
                    <a:ext cx="61484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1616040" y="5842080"/>
          <a:ext cx="562788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6040" y="5842080"/>
                    <a:ext cx="562788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498600" y="1050840"/>
            <a:ext cx="40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633680" y="1438200"/>
          <a:ext cx="5651280" cy="149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33680" y="1438200"/>
                    <a:ext cx="565128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36160" y="169560"/>
            <a:ext cx="870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ПОО потенциал пылевых части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77800" y="1009800"/>
          <a:ext cx="618660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7800" y="1009800"/>
                    <a:ext cx="618660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505480" y="2700360"/>
          <a:ext cx="3340080" cy="9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5480" y="2700360"/>
                    <a:ext cx="334008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384200" y="4286160"/>
          <a:ext cx="6594480" cy="195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4200" y="4286160"/>
                    <a:ext cx="659448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Аналитическая теория  при повышенных давл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2640" y="3486240"/>
            <a:ext cx="25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ток электро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405160" y="1890720"/>
          <a:ext cx="379728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5160" y="1890720"/>
                    <a:ext cx="379728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"/>
          <p:cNvGraphicFramePr/>
          <p:nvPr/>
        </p:nvGraphicFramePr>
        <p:xfrm>
          <a:off x="1193760" y="4118040"/>
          <a:ext cx="661824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3760" y="4118040"/>
                    <a:ext cx="66182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60" y="169920"/>
            <a:ext cx="870444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Слой амбиполярной диффуз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19640" y="1168560"/>
            <a:ext cx="762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 потоков, пренебрегая диффузией ионов, найдем пол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09720" y="3390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93680" y="2928960"/>
            <a:ext cx="71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ерь исключим поле из уравнение баланса электронов в стационаре и, используя уравнение Пуассона, приведем его ви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839960" y="1682640"/>
          <a:ext cx="5410080" cy="12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9960" y="1682640"/>
                    <a:ext cx="5410080" cy="12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351080" y="4595760"/>
          <a:ext cx="5925960" cy="17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1080" y="4595760"/>
                    <a:ext cx="592596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0120" y="20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Times New Roman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Схема атомной плазменно-пылевой батаре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ar_sr90" descr=""/>
          <p:cNvPicPr/>
          <p:nvPr/>
        </p:nvPicPr>
        <p:blipFill>
          <a:blip r:embed="rId1"/>
          <a:stretch/>
        </p:blipFill>
        <p:spPr>
          <a:xfrm>
            <a:off x="1676520" y="925560"/>
            <a:ext cx="576252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Filippov_eng" descr=""/>
          <p:cNvPicPr/>
          <p:nvPr/>
        </p:nvPicPr>
        <p:blipFill>
          <a:blip r:embed="rId1"/>
          <a:stretch/>
        </p:blipFill>
        <p:spPr>
          <a:xfrm>
            <a:off x="423720" y="1546200"/>
            <a:ext cx="8069400" cy="50594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201600"/>
            <a:ext cx="77724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Основные элементы атомной плазменно-пылевой батаре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98440"/>
            <a:ext cx="3044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ff"/>
                </a:solidFill>
                <a:latin typeface="Times New Roman"/>
              </a:rPr>
              <a:t>Основные процессы образования эксимеров ксенона в атомной плазменно-пылевой батар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VUV%20color" descr=""/>
          <p:cNvPicPr/>
          <p:nvPr/>
        </p:nvPicPr>
        <p:blipFill>
          <a:blip r:embed="rId1"/>
          <a:stretch/>
        </p:blipFill>
        <p:spPr>
          <a:xfrm>
            <a:off x="3259080" y="285840"/>
            <a:ext cx="541332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f0f7"/>
            </a:gs>
            <a:gs pos="100000">
              <a:srgbClr val="c0e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5120" y="196920"/>
            <a:ext cx="786636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Масса (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) и активность  (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) изотопа и концентрация (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0" i="1" lang="ru-RU" sz="2400" spc="-1" strike="noStrike" baseline="-25000">
                <a:solidFill>
                  <a:srgbClr val="0000ff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) радиоактивных пылевых частиц радиуса  </a:t>
            </a:r>
            <a:r>
              <a:rPr b="0" i="1" lang="ru-RU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ru-RU" sz="2400" spc="-1" strike="noStrike" baseline="-25000">
                <a:solidFill>
                  <a:srgbClr val="0000ff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, необходимая для производства 1 Вт электрической мощности 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 эффективностью 25% </a:t>
            </a:r>
            <a:br>
              <a:rPr sz="2400"/>
            </a:b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атомной плазменно-пылевой батареей объёмом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1 лит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79600" y="2325600"/>
          <a:ext cx="7957800" cy="432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" y="2325600"/>
                    <a:ext cx="7957800" cy="4321440"/>
                  </a:xfrm>
                  <a:prstGeom prst="rect">
                    <a:avLst/>
                  </a:prstGeom>
                  <a:ln w="648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3:37:09Z</dcterms:created>
  <dc:creator>Mir</dc:creator>
  <dc:description/>
  <dc:language>en-US</dc:language>
  <cp:lastModifiedBy>Anatoly Filippov</cp:lastModifiedBy>
  <dcterms:modified xsi:type="dcterms:W3CDTF">2002-08-30T06:54:49Z</dcterms:modified>
  <cp:revision>171</cp:revision>
  <dc:subject/>
  <dc:title>ГНЦ РФ  «Троицкий институт инновационных и термоядерных исследований»</dc:title>
</cp:coreProperties>
</file>